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CBD-D39E-4890-A860-59C8D676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CC1A-F132-4AA4-93F7-FBD0727A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AD9E-D3C8-495E-B216-F42CC7D6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015B-42F0-461D-9549-9733DB3C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2FF8-5115-416F-B905-C3C0467B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9C89-B56F-47EB-8C32-4D38E092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7C9-B5FA-4C4B-9E78-7C1D009E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E401-3EF5-442D-A849-978860C9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E8C-B3E5-4E3E-AD11-3A38711B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AFA-2880-47A7-AC64-F6C04744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FD6-5647-41B0-9C9F-1F755990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4D6-345A-4EB8-A167-BFE345EF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C50CF-603A-476A-ACB7-25244562B23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31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1" i="1" lang="ru-RU" sz="4200" spc="-1" strike="noStrike">
                <a:solidFill>
                  <a:srgbClr val="ff0000"/>
                </a:solidFill>
                <a:latin typeface="Georgia"/>
              </a:rPr>
              <a:t>«Ореховский сельсовет»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Касторенского района Курской области на 2015 год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и на плановый период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2016 и 2017 годов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Ореховский сельсовет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17 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40" name="Object 3" descr=""/>
          <p:cNvPicPr/>
          <p:nvPr/>
        </p:nvPicPr>
        <p:blipFill>
          <a:blip r:embed="rId2"/>
          <a:stretch/>
        </p:blipFill>
        <p:spPr>
          <a:xfrm>
            <a:off x="-468360" y="1341360"/>
            <a:ext cx="93963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Ореховский сельсовет»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асторенского района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на 2015 год и на плановый период 2016 и 2017 годов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360" y="1125360"/>
          <a:ext cx="8231040" cy="287352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3938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15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16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17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350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98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982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нальная 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69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7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6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3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42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562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67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500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63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муниципального образования «Ореховский сельсовет»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Касторенского района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 Курской области в 2015-2017 годах (тыс.руб.)</a:t>
            </a:r>
            <a:endParaRPr b="1" i="1" lang="en-US" sz="16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907920"/>
          <a:ext cx="9002880" cy="2266920"/>
        </p:xfrm>
        <a:graphic>
          <a:graphicData uri="http://schemas.openxmlformats.org/drawingml/2006/table">
            <a:tbl>
              <a:tblPr/>
              <a:tblGrid>
                <a:gridCol w="6603840"/>
                <a:gridCol w="776520"/>
                <a:gridCol w="776160"/>
                <a:gridCol w="846360"/>
              </a:tblGrid>
              <a:tr h="5050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1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52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499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582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Microsoft JhengHei"/>
                          <a:ea typeface="Lucida Sans Unicode"/>
                        </a:rPr>
                        <a:t>1 . Муниципальная программа «Развитие культур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3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42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562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3. Муниципальная программа «Обеспечение доступным и комфортным жильем и коммунальными услугами граждан» МО «Ореховский сельсовет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муниципального образования «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Ореховский сельсовет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»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асторенского района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8231040" cy="405936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  <a:gridCol w="1079280"/>
                <a:gridCol w="1019160"/>
              </a:tblGrid>
              <a:tr h="7491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15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35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981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982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8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8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8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613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613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613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449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8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8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1" i="1" lang="en-US" sz="2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6200000">
            <a:off x="100404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поступ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в бюджет денеж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средства в ви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налоговых , неналогов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безвозмездных поступ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 rot="16200000">
            <a:off x="5432400" y="907920"/>
            <a:ext cx="2736720" cy="432108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денеж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средства, направля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на финансовое обесп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задач и функций 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местного само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Администрации Ореховского 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«Ореховский 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«Ореховский сельсовет» 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Курской области на 2015 год и плановый период 2016-2017 годов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2205000"/>
          <a:ext cx="8353440" cy="4253040"/>
        </p:xfrm>
        <a:graphic>
          <a:graphicData uri="http://schemas.openxmlformats.org/drawingml/2006/table">
            <a:tbl>
              <a:tblPr/>
              <a:tblGrid>
                <a:gridCol w="2670120"/>
                <a:gridCol w="1566720"/>
                <a:gridCol w="1560600"/>
                <a:gridCol w="2556000"/>
              </a:tblGrid>
              <a:tr h="700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15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0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3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48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8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9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484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0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3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Microsoft YaHei"/>
              </a:rPr>
              <a:t>Доходы бюджета муниципального образования «Ореховский сельсовет» на 2015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99" name="AutoShape 4"/>
            <p:cNvCxnSpPr>
              <a:stCxn id="100" idx="0"/>
            </p:cNvCxnSpPr>
            <p:nvPr/>
          </p:nvCxnSpPr>
          <p:spPr>
            <a:xfrm flipV="1" rot="16200000">
              <a:off x="5442120" y="2602800"/>
              <a:ext cx="892800" cy="296460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1" name="AutoShape 5"/>
            <p:cNvCxnSpPr>
              <a:stCxn id="102" idx="0"/>
            </p:cNvCxnSpPr>
            <p:nvPr/>
          </p:nvCxnSpPr>
          <p:spPr>
            <a:xfrm flipV="1" rot="16200000">
              <a:off x="3962160" y="4084560"/>
              <a:ext cx="89280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3" name="AutoShape 6"/>
            <p:cNvCxnSpPr>
              <a:stCxn id="104" idx="0"/>
            </p:cNvCxnSpPr>
            <p:nvPr/>
          </p:nvCxnSpPr>
          <p:spPr>
            <a:xfrm flipH="1" flipV="1" rot="5400000">
              <a:off x="2480760" y="2605320"/>
              <a:ext cx="892800" cy="295956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05" name="AutoShape 7"/>
            <p:cNvGrpSpPr/>
            <p:nvPr/>
          </p:nvGrpSpPr>
          <p:grpSpPr>
            <a:xfrm>
              <a:off x="3114720" y="1844640"/>
              <a:ext cx="2584440" cy="1819440"/>
              <a:chOff x="3114720" y="1844640"/>
              <a:chExt cx="2584440" cy="1819440"/>
            </a:xfrm>
          </p:grpSpPr>
          <p:pic>
            <p:nvPicPr>
              <p:cNvPr id="106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14720" y="1844640"/>
                <a:ext cx="2584440" cy="181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3226680" y="1953000"/>
                <a:ext cx="2361240" cy="15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  <a:ea typeface="Lucida Sans Unicode"/>
                  </a:rPr>
                  <a:t>1672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AutoShape 8"/>
            <p:cNvSpPr/>
            <p:nvPr/>
          </p:nvSpPr>
          <p:spPr>
            <a:xfrm>
              <a:off x="17928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Microsoft YaHei"/>
                </a:rPr>
                <a:t>1280,4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313992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Microsoft YaHei"/>
                </a:rPr>
                <a:t>0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10"/>
            <p:cNvSpPr/>
            <p:nvPr/>
          </p:nvSpPr>
          <p:spPr>
            <a:xfrm>
              <a:off x="6102360" y="4531320"/>
              <a:ext cx="253512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Microsoft YaHei"/>
                </a:rPr>
                <a:t>391,6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Microsoft YaHei"/>
              </a:rPr>
              <a:t>Доходы бюджета муниципального образования «Ореховский сельсовет» на 201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Microsoft YaHei"/>
              </a:rPr>
              <a:t>6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Microsoft YaHei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111" name="AutoShape 4"/>
            <p:cNvCxnSpPr>
              <a:stCxn id="112" idx="0"/>
            </p:cNvCxnSpPr>
            <p:nvPr/>
          </p:nvCxnSpPr>
          <p:spPr>
            <a:xfrm flipV="1" rot="16200000">
              <a:off x="5442120" y="2602800"/>
              <a:ext cx="892800" cy="296460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13" name="AutoShape 5"/>
            <p:cNvCxnSpPr>
              <a:stCxn id="114" idx="0"/>
            </p:cNvCxnSpPr>
            <p:nvPr/>
          </p:nvCxnSpPr>
          <p:spPr>
            <a:xfrm flipV="1" rot="16200000">
              <a:off x="3962160" y="4084560"/>
              <a:ext cx="89280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15" name="AutoShape 6"/>
            <p:cNvCxnSpPr>
              <a:stCxn id="116" idx="0"/>
            </p:cNvCxnSpPr>
            <p:nvPr/>
          </p:nvCxnSpPr>
          <p:spPr>
            <a:xfrm flipH="1" flipV="1" rot="5400000">
              <a:off x="2480760" y="2605320"/>
              <a:ext cx="892800" cy="295956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17" name="AutoShape 7"/>
            <p:cNvGrpSpPr/>
            <p:nvPr/>
          </p:nvGrpSpPr>
          <p:grpSpPr>
            <a:xfrm>
              <a:off x="3114720" y="1844640"/>
              <a:ext cx="2584440" cy="1819440"/>
              <a:chOff x="3114720" y="1844640"/>
              <a:chExt cx="2584440" cy="1819440"/>
            </a:xfrm>
          </p:grpSpPr>
          <p:pic>
            <p:nvPicPr>
              <p:cNvPr id="118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14720" y="1844640"/>
                <a:ext cx="2584440" cy="181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26680" y="1953000"/>
                <a:ext cx="2361240" cy="15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  <a:ea typeface="Lucida Sans Unicode"/>
                  </a:rPr>
                  <a:t>1500,9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AutoShape 8"/>
            <p:cNvSpPr/>
            <p:nvPr/>
          </p:nvSpPr>
          <p:spPr>
            <a:xfrm>
              <a:off x="17928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1284,9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AutoShape 9"/>
            <p:cNvSpPr/>
            <p:nvPr/>
          </p:nvSpPr>
          <p:spPr>
            <a:xfrm>
              <a:off x="313992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Microsoft YaHei"/>
                </a:rPr>
                <a:t>0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10"/>
            <p:cNvSpPr/>
            <p:nvPr/>
          </p:nvSpPr>
          <p:spPr>
            <a:xfrm>
              <a:off x="6102360" y="4531320"/>
              <a:ext cx="253512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Microsoft YaHei"/>
                </a:rPr>
                <a:t>216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Microsoft YaHei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Microsoft YaHei"/>
              </a:rPr>
              <a:t>Ореховский сельсовет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Microsoft YaHei"/>
              </a:rPr>
              <a:t>» на 201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Microsoft YaHei"/>
              </a:rPr>
              <a:t>7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Microsoft YaHei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123" name="AutoShape 4"/>
            <p:cNvCxnSpPr>
              <a:stCxn id="124" idx="0"/>
            </p:cNvCxnSpPr>
            <p:nvPr/>
          </p:nvCxnSpPr>
          <p:spPr>
            <a:xfrm flipV="1" rot="16200000">
              <a:off x="5442120" y="2602800"/>
              <a:ext cx="892800" cy="296460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25" name="AutoShape 5"/>
            <p:cNvCxnSpPr>
              <a:stCxn id="126" idx="0"/>
            </p:cNvCxnSpPr>
            <p:nvPr/>
          </p:nvCxnSpPr>
          <p:spPr>
            <a:xfrm flipV="1" rot="16200000">
              <a:off x="3962160" y="4084560"/>
              <a:ext cx="89280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27" name="AutoShape 6"/>
            <p:cNvCxnSpPr>
              <a:stCxn id="128" idx="0"/>
            </p:cNvCxnSpPr>
            <p:nvPr/>
          </p:nvCxnSpPr>
          <p:spPr>
            <a:xfrm flipH="1" flipV="1" rot="5400000">
              <a:off x="2480760" y="2605320"/>
              <a:ext cx="892800" cy="295956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29" name="AutoShape 7"/>
            <p:cNvGrpSpPr/>
            <p:nvPr/>
          </p:nvGrpSpPr>
          <p:grpSpPr>
            <a:xfrm>
              <a:off x="3114720" y="1844640"/>
              <a:ext cx="2584440" cy="1819440"/>
              <a:chOff x="3114720" y="1844640"/>
              <a:chExt cx="2584440" cy="1819440"/>
            </a:xfrm>
          </p:grpSpPr>
          <p:pic>
            <p:nvPicPr>
              <p:cNvPr id="130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14720" y="1844640"/>
                <a:ext cx="2584440" cy="181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3226680" y="1953000"/>
                <a:ext cx="2361240" cy="15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  <a:ea typeface="Lucida Sans Unicode"/>
                  </a:rPr>
                  <a:t>1632,5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" name="AutoShape 8"/>
            <p:cNvSpPr/>
            <p:nvPr/>
          </p:nvSpPr>
          <p:spPr>
            <a:xfrm>
              <a:off x="17928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Microsoft YaHei"/>
                </a:rPr>
                <a:t>1290,5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9"/>
            <p:cNvSpPr/>
            <p:nvPr/>
          </p:nvSpPr>
          <p:spPr>
            <a:xfrm>
              <a:off x="313992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Microsoft YaHei"/>
                </a:rPr>
                <a:t>0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10"/>
            <p:cNvSpPr/>
            <p:nvPr/>
          </p:nvSpPr>
          <p:spPr>
            <a:xfrm>
              <a:off x="6102360" y="4531320"/>
              <a:ext cx="253512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Microsoft YaHei"/>
                </a:rPr>
                <a:t>342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Microsoft YaHei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Ореховский сельсовет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15 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34" name="Object 3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-68436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Ореховский сельсовет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16 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37" name="Object 3" descr=""/>
          <p:cNvPicPr/>
          <p:nvPr/>
        </p:nvPicPr>
        <p:blipFill>
          <a:blip r:embed="rId2"/>
          <a:stretch/>
        </p:blipFill>
        <p:spPr>
          <a:xfrm>
            <a:off x="-851040" y="1413000"/>
            <a:ext cx="99950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Бухгалтер</cp:lastModifiedBy>
  <dcterms:modified xsi:type="dcterms:W3CDTF">2015-10-15T10:45:50Z</dcterms:modified>
  <cp:revision>45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